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187-2402-466B-ABDA-CF57437F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1A9-038C-4A6B-9A76-7A5632D1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B45-F61F-4877-96CC-4B102BFF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03B-C3B9-4EED-966B-CACDB8AE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FDE-0CC7-40E4-8ABC-049F075B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32B-7B1B-4768-9842-CEEB561C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E8B-8DF5-46A9-9842-E560644E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99C-B4EE-4D98-B427-BB45FDA4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BEA-80E4-4711-A712-990911F4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892-1A6E-40F3-8519-A3AFEF08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71E-EDF3-45C5-84FC-BE211EEA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AE5-4BF2-47E7-9075-EB8D3B44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0024-8C7C-4F74-A850-656EBB5ED6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04440" y="404640"/>
            <a:ext cx="36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스마트폰 일반카드 결제 샘플 가이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안드로이드 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1628640"/>
          <a:ext cx="7993080" cy="4543560"/>
        </p:xfrm>
        <a:graphic>
          <a:graphicData uri="http://schemas.openxmlformats.org/drawingml/2006/table">
            <a:tbl>
              <a:tblPr/>
              <a:tblGrid>
                <a:gridCol w="1800000"/>
                <a:gridCol w="619308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역변수를 사용하기 위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플 처음 실행시 시작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와 계좌이체 결제를 선택할 수 있도록 되어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페이지를 호출하여 결제가 카드결제가 진행되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과 같은 을 제어한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nt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좌이체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sultRcv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른 앱에서 되돌아올 때 호출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으로 호출됩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퍼미션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RNET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만 선언되었으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안드로이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K 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버전으로 개발되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21"/>
          <p:cNvSpPr/>
          <p:nvPr/>
        </p:nvSpPr>
        <p:spPr>
          <a:xfrm>
            <a:off x="513000" y="976320"/>
            <a:ext cx="27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ndroidManifest.xm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2560" y="847800"/>
          <a:ext cx="7993080" cy="571032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Creat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을 설정하고 업체 주문페이지를 호출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사용하는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기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avePassword(fals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웹페이지 비밀번호 자동저장 하지 않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Enabled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 허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CanOpenWindowsAutomatically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를 이용하여 윈도우를 새로 열수 있도록 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실행하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설치 되어있지 않으면 설치하도록 유도를 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InfoBridg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 및 실행을 유도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Return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 응답값을 확인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선택시에만 사용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WideViewPort(true)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보이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화면을 와이드하게 확대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ebChromeCli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능을 사용할 수 있도록 선언되었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Cli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상속받아 구현되었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판단하여 분기처리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클레스 및 함수 상세 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_scheme_intent(String url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해당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이용하여 호출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서 호출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메일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번호는 자동연결을 막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주소를 판단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oad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 방식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방식으로 나누어 분기처리하여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결제시 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을 호출 전에 카드정보와 결제방식 정보를 전역변수에 저장하고 앱을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 설치되어있는 모든 앱을 확인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의 설치여부를 판단하여 설가 되어있으면 앱을 호출하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되어있지 않으면 안드로이드 마켓을 호출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설치를 유도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inishActivity(String p_strFinishMsg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종료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eckFrom() 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종료 후 호출되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pproval_ke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값을 전달하여 결제를 진행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PaypinInfo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이 설치 되어 있는지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ypinConfi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화면 이동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Confir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결제 완료 또는 취소를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Restar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타 앱에서 복귀했을 때 호출되어 전역클레스에 값이 전달되었는지 확인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ResultRcv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의해 값이 전역클레스에 정상적으로 전달되었을경우에는 결제를 진행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아닌경우에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heckFrom(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가 실행되어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제가 정상적으로 처리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40"/>
          <p:cNvSpPr/>
          <p:nvPr/>
        </p:nvSpPr>
        <p:spPr>
          <a:xfrm>
            <a:off x="554760" y="3333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PayDemo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82560" y="847800"/>
          <a:ext cx="7993080" cy="104148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에 의해 호출되며 타앱에서 보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nt Data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전역클레스에 전달한 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끝낸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yApp.b_typ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ru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로 만들어야 페이핀 어플에서 값을 받은 걸로 판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40"/>
          <p:cNvSpPr/>
          <p:nvPr/>
        </p:nvSpPr>
        <p:spPr>
          <a:xfrm>
            <a:off x="573120" y="3333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ResultRcv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2560" y="847800"/>
          <a:ext cx="7993080" cy="314316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테스트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devpggw.kcp.co.kr:8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pggw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신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smpay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40"/>
          <p:cNvSpPr/>
          <p:nvPr/>
        </p:nvSpPr>
        <p:spPr>
          <a:xfrm>
            <a:off x="868320" y="3333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개발시 유의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59:01Z</dcterms:created>
  <dc:creator>polaris</dc:creator>
  <dc:description/>
  <dc:language>en-US</dc:language>
  <cp:lastModifiedBy>민수</cp:lastModifiedBy>
  <dcterms:modified xsi:type="dcterms:W3CDTF">2013-08-05T06:03:25Z</dcterms:modified>
  <cp:revision>65</cp:revision>
  <dc:subject/>
  <dc:title>슬라이드 1</dc:title>
</cp:coreProperties>
</file>